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04B4-D6E7-4E2C-A604-4CF293F6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B85-67DC-4325-BAE0-FEFE10B7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E24A-F129-41B9-8636-F216575C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4BC-0F0A-492D-A394-C6F4B2E9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BC26-6F72-46C7-8209-B041D8FF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8B2F-2B7D-4A26-BC86-1C25646D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BCB0-E995-492C-B63F-3AB2AA9D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EB84-9CC5-49C5-BA4A-F702E74A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991-355F-4015-890B-13F5D272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21CE-15EA-44D2-8BDB-C5EBAC6A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EE2C-B5AE-40D6-892A-BD1DD31A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8DF-619C-4C60-B36F-B56ED384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9BB9-6F8E-421D-876E-BE20C0D755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задания №15 на ЕГЭ 2018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732360" y="5661000"/>
            <a:ext cx="216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лова Н.А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МЛ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6264000" cy="2206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611280" y="2565360"/>
            <a:ext cx="6532560" cy="3811680"/>
          </a:xfrm>
          <a:prstGeom prst="rect">
            <a:avLst/>
          </a:prstGeom>
          <a:ln w="0">
            <a:noFill/>
          </a:ln>
        </p:spPr>
      </p:pic>
      <p:sp>
        <p:nvSpPr>
          <p:cNvPr id="77" name="Овал 2"/>
          <p:cNvSpPr/>
          <p:nvPr/>
        </p:nvSpPr>
        <p:spPr>
          <a:xfrm>
            <a:off x="2987640" y="3716280"/>
            <a:ext cx="1513080" cy="720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3"/>
          <p:cNvSpPr/>
          <p:nvPr/>
        </p:nvSpPr>
        <p:spPr>
          <a:xfrm>
            <a:off x="767304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6"/>
          <p:cNvSpPr/>
          <p:nvPr/>
        </p:nvSpPr>
        <p:spPr>
          <a:xfrm>
            <a:off x="3211560" y="5597640"/>
            <a:ext cx="1152360" cy="349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7716960" cy="496872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7600680" y="616572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1071720" y="853920"/>
            <a:ext cx="7000560" cy="514836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7816320" y="60930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022400" y="1147680"/>
            <a:ext cx="7099200" cy="456264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7888680" y="630864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 бал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420920" y="620640"/>
            <a:ext cx="548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решение неравен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Объект 3"/>
              <p:cNvSpPr txBox="1"/>
              <p:nvPr/>
            </p:nvSpPr>
            <p:spPr>
              <a:xfrm>
                <a:off x="900000" y="1773360"/>
                <a:ext cx="77281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" name="TextBox 4"/>
          <p:cNvSpPr/>
          <p:nvPr/>
        </p:nvSpPr>
        <p:spPr>
          <a:xfrm>
            <a:off x="4002120" y="299736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Объект 6"/>
              <p:cNvSpPr txBox="1"/>
              <p:nvPr/>
            </p:nvSpPr>
            <p:spPr>
              <a:xfrm>
                <a:off x="5292720" y="2924280"/>
                <a:ext cx="20876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3</m:t>
                    </m:r>
                    <m:r>
                      <m:t xml:space="preserve">]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2498040" y="765000"/>
            <a:ext cx="41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887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68360" y="114480"/>
            <a:ext cx="5975280" cy="1369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828720" y="1641600"/>
            <a:ext cx="4751280" cy="4952880"/>
          </a:xfrm>
          <a:prstGeom prst="rect">
            <a:avLst/>
          </a:prstGeom>
          <a:ln w="0">
            <a:noFill/>
          </a:ln>
        </p:spPr>
      </p:pic>
      <p:sp>
        <p:nvSpPr>
          <p:cNvPr id="53" name="Овал 7"/>
          <p:cNvSpPr/>
          <p:nvPr/>
        </p:nvSpPr>
        <p:spPr>
          <a:xfrm>
            <a:off x="2124000" y="5732640"/>
            <a:ext cx="216000" cy="144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788976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9"/>
          <p:cNvSpPr/>
          <p:nvPr/>
        </p:nvSpPr>
        <p:spPr>
          <a:xfrm>
            <a:off x="4284720" y="6524640"/>
            <a:ext cx="216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68360" y="204840"/>
            <a:ext cx="6818400" cy="2149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755640" y="2354400"/>
            <a:ext cx="6904080" cy="2782800"/>
          </a:xfrm>
          <a:prstGeom prst="rect">
            <a:avLst/>
          </a:prstGeom>
          <a:ln w="0">
            <a:noFill/>
          </a:ln>
        </p:spPr>
      </p:pic>
      <p:sp>
        <p:nvSpPr>
          <p:cNvPr id="58" name="Выгнутая вниз стрелка 1"/>
          <p:cNvSpPr/>
          <p:nvPr/>
        </p:nvSpPr>
        <p:spPr>
          <a:xfrm>
            <a:off x="4932360" y="4581360"/>
            <a:ext cx="503280" cy="142920"/>
          </a:xfrm>
          <a:custGeom>
            <a:avLst/>
            <a:gdLst>
              <a:gd name="textAreaLeft" fmla="*/ 112320 w 503280"/>
              <a:gd name="textAreaRight" fmla="*/ 372960 w 503280"/>
              <a:gd name="textAreaTop" fmla="*/ 19080 h 142920"/>
              <a:gd name="textAreaBottom" fmla="*/ 1238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50" hR="21600" stAng="10800000" swAng="-5400000"/>
                <a:lnTo>
                  <a:pt x="11184" y="21600"/>
                </a:lnTo>
                <a:arcTo wR="9650" hR="21600" stAng="5400000" swAng="-3598487"/>
                <a:lnTo>
                  <a:pt x="21294" y="5400"/>
                </a:lnTo>
                <a:lnTo>
                  <a:pt x="20067" y="0"/>
                </a:lnTo>
                <a:lnTo>
                  <a:pt x="18228" y="5400"/>
                </a:lnTo>
                <a:lnTo>
                  <a:pt x="18994" y="5400"/>
                </a:lnTo>
                <a:arcTo wR="9650" hR="21600" stAng="1801513" swAng="3476079"/>
                <a:lnTo>
                  <a:pt x="10417" y="21532"/>
                </a:lnTo>
                <a:arcTo wR="9650" hR="21600" stAng="5522408" swAng="5277592"/>
                <a:close/>
              </a:path>
              <a:path fill="darkenLess" w="21600" h="21600">
                <a:moveTo>
                  <a:pt x="0" y="0"/>
                </a:moveTo>
                <a:arcTo wR="9650" hR="21600" stAng="10800000" swAng="-5400000"/>
                <a:lnTo>
                  <a:pt x="11184" y="21600"/>
                </a:lnTo>
                <a:arcTo wR="9650" hR="21600" stAng="5400000" swAng="122408"/>
                <a:lnTo>
                  <a:pt x="10417" y="21532"/>
                </a:lnTo>
                <a:arcTo wR="9650" hR="21600" stAng="5522408" swAng="5277592"/>
                <a:close/>
              </a:path>
            </a:pathLst>
          </a:custGeom>
          <a:solidFill>
            <a:srgbClr val="4f81b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7817400" y="6237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442880" y="74520"/>
            <a:ext cx="6258240" cy="6708960"/>
          </a:xfrm>
          <a:prstGeom prst="rect">
            <a:avLst/>
          </a:prstGeom>
          <a:ln w="0">
            <a:noFill/>
          </a:ln>
        </p:spPr>
      </p:pic>
      <p:sp>
        <p:nvSpPr>
          <p:cNvPr id="61" name="Овал 4"/>
          <p:cNvSpPr/>
          <p:nvPr/>
        </p:nvSpPr>
        <p:spPr>
          <a:xfrm>
            <a:off x="4211640" y="5661000"/>
            <a:ext cx="128520" cy="7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211640" y="6021360"/>
            <a:ext cx="152280" cy="92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4510080" y="6031080"/>
            <a:ext cx="152280" cy="9180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/>
          <p:cNvSpPr/>
          <p:nvPr/>
        </p:nvSpPr>
        <p:spPr>
          <a:xfrm>
            <a:off x="7817400" y="630864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11280" y="15840"/>
            <a:ext cx="6953040" cy="3514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622440" y="3284640"/>
            <a:ext cx="5452920" cy="179532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7385040" y="6308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бал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1"/>
          <p:cNvSpPr/>
          <p:nvPr/>
        </p:nvSpPr>
        <p:spPr>
          <a:xfrm>
            <a:off x="1476360" y="3894120"/>
            <a:ext cx="45720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082520" y="671400"/>
            <a:ext cx="6977160" cy="5513400"/>
          </a:xfrm>
          <a:prstGeom prst="rect">
            <a:avLst/>
          </a:prstGeom>
          <a:ln w="0">
            <a:noFill/>
          </a:ln>
        </p:spPr>
      </p:pic>
      <p:sp>
        <p:nvSpPr>
          <p:cNvPr id="70" name="Овал 1"/>
          <p:cNvSpPr/>
          <p:nvPr/>
        </p:nvSpPr>
        <p:spPr>
          <a:xfrm>
            <a:off x="5219640" y="4365720"/>
            <a:ext cx="45720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"/>
          <p:cNvSpPr/>
          <p:nvPr/>
        </p:nvSpPr>
        <p:spPr>
          <a:xfrm>
            <a:off x="8462160" y="6308640"/>
            <a:ext cx="2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47880" y="206280"/>
            <a:ext cx="6976800" cy="6391440"/>
          </a:xfrm>
          <a:prstGeom prst="rect">
            <a:avLst/>
          </a:prstGeom>
          <a:ln w="0">
            <a:noFill/>
          </a:ln>
        </p:spPr>
      </p:pic>
      <p:sp>
        <p:nvSpPr>
          <p:cNvPr id="73" name="Овал 1"/>
          <p:cNvSpPr/>
          <p:nvPr/>
        </p:nvSpPr>
        <p:spPr>
          <a:xfrm>
            <a:off x="1187280" y="3402000"/>
            <a:ext cx="2160720" cy="33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7673040" y="638172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02T11:34:59Z</dcterms:created>
  <dc:creator>User</dc:creator>
  <dc:description/>
  <dc:language>en-US</dc:language>
  <cp:lastModifiedBy>User</cp:lastModifiedBy>
  <dcterms:modified xsi:type="dcterms:W3CDTF">2021-04-25T11:03:40Z</dcterms:modified>
  <cp:revision>16</cp:revision>
  <dc:subject/>
  <dc:title>Презентация PowerPoint</dc:title>
</cp:coreProperties>
</file>